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3EA-360B-42FE-869B-BA9AD647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F6F-B789-4181-BC2F-2F2DA223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83F-8FE8-4971-9ADE-F7C0F86B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4FE-0AB9-44F7-BC3B-0552B829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7A4-268E-46DA-B7D6-6804B56C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CBF4-9270-4F44-9B18-0B9912C0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ED9-E71F-45DC-A366-3554F7E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3B67-C9FD-4409-B2AC-4548D6F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63EC-EA81-4332-B96B-2B806C6F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7680-89E1-43DA-BC60-C4A6D6F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EE82-E41A-4FDB-BBA9-A4559E32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F2F-D092-48D9-810A-B946ACCD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DD58-477A-4E62-B2C0-F0AED1CB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25CE-E257-41FC-A268-F5149530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3A24-C6C5-4DBE-880F-89C55512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93A-7693-4E58-87D4-759BE0C6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89D4-64C3-46D4-92AC-8925443F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21039-A54E-4ECC-8C5C-AE3F2340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B174E-92D9-4241-95D9-04CD9689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7BD2A-6CC1-45A5-8694-37A79C1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1D112-82F4-4361-AAE0-6ECF200C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0AE0C-79EF-43EA-985C-E43A671B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8AC-E122-4877-905D-ED5E1E84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30E5A-1CA1-43AC-89A3-B404B40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A39C8-5D59-4BEB-B2E6-4417515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67201-EF2F-4AD0-B1DF-3E1B2FF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326BC-BA85-4B8E-873E-084C1A93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FBD79-45EF-4B72-AB64-773684E5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0CAA6-16C6-4E80-8205-17CB427E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F8001-964A-440E-96C5-4251006C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11668-B83A-4E74-A08A-F9D8CEC3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7AC3-D70F-4119-9528-A06A7DC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02EC-6D38-4492-B9EE-CAA95005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612-1455-4227-A113-7130901F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7BC1-3C87-4FA5-B337-B4E51A6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3101-B77F-4C5F-9912-6BE504FF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AECE-F31A-47F1-8F14-ED6CC77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6A875-91E6-4688-875F-A507BA1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8958-0120-4104-9DF0-C5E78E09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E4C2-CD06-4329-BD05-A64FCADE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9EE4-1C6D-4DB9-99B2-4943B127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33D1-49D1-4718-B6AA-D91FEE8B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7D0C-6BB2-4705-B7C8-B89F4A85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B8C-9612-48E9-AE99-8077D60E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D94-8995-4F90-8A6B-4D6A600C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15F-5367-4A82-9FCF-75E89BC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D1F-9917-4509-9EC8-1D652957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E5E-EA19-4C55-9D61-5DE42C9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7C6-CE44-45F8-AAB3-5CE5697640D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203C-53B6-46E1-A4D4-497D6B27FDF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1FC6-693E-4EC5-9CA0-110F881A505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FFB-092C-4918-B543-1EAE002A809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Diagram 3" descr=""/>
          <p:cNvPicPr/>
          <p:nvPr/>
        </p:nvPicPr>
        <p:blipFill>
          <a:blip r:embed="rId1"/>
          <a:stretch/>
        </p:blipFill>
        <p:spPr>
          <a:xfrm>
            <a:off x="365040" y="146160"/>
            <a:ext cx="8340840" cy="1006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724280" y="12952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st 3 pieces of evidence to support the endosymbiont theor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half-life of carbon-14 is about 5600 years.  A fossil with ¼ the normal proportion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probably _______ years ol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320" y="129528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swer the following using the diagram below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a common ancestor for D &amp; F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most closely related spec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least related spec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new species C arises at this poi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6f8d"/>
                </a:solidFill>
                <a:latin typeface="Georgia"/>
              </a:rPr>
              <a:t>common ancestor for E &amp; F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857160" indent="-457200"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grpSp>
        <p:nvGrpSpPr>
          <p:cNvPr id="217" name="Group 28"/>
          <p:cNvGrpSpPr/>
          <p:nvPr/>
        </p:nvGrpSpPr>
        <p:grpSpPr>
          <a:xfrm>
            <a:off x="762120" y="2133720"/>
            <a:ext cx="3581280" cy="2514600"/>
            <a:chOff x="762120" y="2133720"/>
            <a:chExt cx="3581280" cy="2514600"/>
          </a:xfrm>
        </p:grpSpPr>
        <p:sp>
          <p:nvSpPr>
            <p:cNvPr id="218" name="Rectangle 25"/>
            <p:cNvSpPr/>
            <p:nvPr/>
          </p:nvSpPr>
          <p:spPr>
            <a:xfrm>
              <a:off x="762120" y="2133720"/>
              <a:ext cx="3581280" cy="2514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7"/>
            <p:cNvGrpSpPr/>
            <p:nvPr/>
          </p:nvGrpSpPr>
          <p:grpSpPr>
            <a:xfrm>
              <a:off x="990720" y="2438280"/>
              <a:ext cx="3066480" cy="2163240"/>
              <a:chOff x="990720" y="2438280"/>
              <a:chExt cx="3066480" cy="2163240"/>
            </a:xfrm>
          </p:grpSpPr>
          <p:sp>
            <p:nvSpPr>
              <p:cNvPr id="220" name="Straight Connector 9"/>
              <p:cNvSpPr/>
              <p:nvPr/>
            </p:nvSpPr>
            <p:spPr>
              <a:xfrm flipV="1">
                <a:off x="2457720" y="3992040"/>
                <a:ext cx="0" cy="609480"/>
              </a:xfrm>
              <a:prstGeom prst="line">
                <a:avLst/>
              </a:prstGeom>
              <a:ln w="5724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26"/>
              <p:cNvGrpSpPr/>
              <p:nvPr/>
            </p:nvGrpSpPr>
            <p:grpSpPr>
              <a:xfrm>
                <a:off x="990720" y="2438280"/>
                <a:ext cx="3066480" cy="1553400"/>
                <a:chOff x="990720" y="2438280"/>
                <a:chExt cx="3066480" cy="1553400"/>
              </a:xfrm>
            </p:grpSpPr>
            <p:sp>
              <p:nvSpPr>
                <p:cNvPr id="222" name="Straight Connector 10"/>
                <p:cNvSpPr/>
                <p:nvPr/>
              </p:nvSpPr>
              <p:spPr>
                <a:xfrm flipV="1">
                  <a:off x="2457360" y="3077640"/>
                  <a:ext cx="1599840" cy="91404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Straight Connector 15"/>
                <p:cNvSpPr/>
                <p:nvPr/>
              </p:nvSpPr>
              <p:spPr>
                <a:xfrm flipH="1" flipV="1">
                  <a:off x="990720" y="2590200"/>
                  <a:ext cx="1466640" cy="140148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Straight Connector 17"/>
                <p:cNvSpPr/>
                <p:nvPr/>
              </p:nvSpPr>
              <p:spPr>
                <a:xfrm flipH="1" flipV="1">
                  <a:off x="3371400" y="2772720"/>
                  <a:ext cx="152280" cy="60948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Straight Connector 19"/>
                <p:cNvSpPr/>
                <p:nvPr/>
              </p:nvSpPr>
              <p:spPr>
                <a:xfrm>
                  <a:off x="990720" y="3123720"/>
                  <a:ext cx="628560" cy="10620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Straight Connector 21"/>
                <p:cNvSpPr/>
                <p:nvPr/>
              </p:nvSpPr>
              <p:spPr>
                <a:xfrm flipV="1">
                  <a:off x="1466640" y="2467800"/>
                  <a:ext cx="685440" cy="60948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23"/>
                <p:cNvSpPr/>
                <p:nvPr/>
              </p:nvSpPr>
              <p:spPr>
                <a:xfrm flipH="1" flipV="1">
                  <a:off x="1752120" y="2438280"/>
                  <a:ext cx="152280" cy="228240"/>
                </a:xfrm>
                <a:prstGeom prst="line">
                  <a:avLst/>
                </a:prstGeom>
                <a:ln w="57240">
                  <a:solidFill>
                    <a:srgbClr val="53548a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" name="TextBox 29"/>
          <p:cNvSpPr/>
          <p:nvPr/>
        </p:nvSpPr>
        <p:spPr>
          <a:xfrm>
            <a:off x="91440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0"/>
          <p:cNvSpPr/>
          <p:nvPr/>
        </p:nvSpPr>
        <p:spPr>
          <a:xfrm>
            <a:off x="144792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1"/>
          <p:cNvSpPr/>
          <p:nvPr/>
        </p:nvSpPr>
        <p:spPr>
          <a:xfrm>
            <a:off x="21337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2"/>
          <p:cNvSpPr/>
          <p:nvPr/>
        </p:nvSpPr>
        <p:spPr>
          <a:xfrm>
            <a:off x="32004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3"/>
          <p:cNvSpPr/>
          <p:nvPr/>
        </p:nvSpPr>
        <p:spPr>
          <a:xfrm>
            <a:off x="39625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4"/>
          <p:cNvSpPr/>
          <p:nvPr/>
        </p:nvSpPr>
        <p:spPr>
          <a:xfrm>
            <a:off x="12952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5"/>
          <p:cNvSpPr/>
          <p:nvPr/>
        </p:nvSpPr>
        <p:spPr>
          <a:xfrm>
            <a:off x="1828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6"/>
          <p:cNvSpPr/>
          <p:nvPr/>
        </p:nvSpPr>
        <p:spPr>
          <a:xfrm>
            <a:off x="14479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7"/>
          <p:cNvSpPr/>
          <p:nvPr/>
        </p:nvSpPr>
        <p:spPr>
          <a:xfrm>
            <a:off x="25146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8"/>
          <p:cNvSpPr/>
          <p:nvPr/>
        </p:nvSpPr>
        <p:spPr>
          <a:xfrm>
            <a:off x="34290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9"/>
          <p:cNvSpPr/>
          <p:nvPr/>
        </p:nvSpPr>
        <p:spPr>
          <a:xfrm>
            <a:off x="76212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Diagram 3" descr=""/>
          <p:cNvPicPr/>
          <p:nvPr/>
        </p:nvPicPr>
        <p:blipFill>
          <a:blip r:embed="rId1"/>
          <a:stretch/>
        </p:blipFill>
        <p:spPr>
          <a:xfrm>
            <a:off x="384120" y="907920"/>
            <a:ext cx="8321760" cy="1092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33160" y="2305080"/>
            <a:ext cx="8001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dimentary rock (layers called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eralized (hard body structur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c – rare in fossils but found in amber, frozen, tar pi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omplete record – many organisms not preserved, fossils destroyed, or not yet f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25_04_FossilTimeline-L.jpg"/>
          <p:cNvPicPr/>
          <p:nvPr/>
        </p:nvPicPr>
        <p:blipFill>
          <a:blip r:embed="rId1"/>
          <a:stretch/>
        </p:blipFill>
        <p:spPr>
          <a:xfrm>
            <a:off x="533520" y="44280"/>
            <a:ext cx="7924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Diagram 11" descr=""/>
          <p:cNvPicPr/>
          <p:nvPr/>
        </p:nvPicPr>
        <p:blipFill>
          <a:blip r:embed="rId1"/>
          <a:stretch/>
        </p:blipFill>
        <p:spPr>
          <a:xfrm>
            <a:off x="371520" y="1670040"/>
            <a:ext cx="8412120" cy="55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4041720" cy="76176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Georgia"/>
              </a:rPr>
              <a:t>Relative D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721040" y="762120"/>
            <a:ext cx="4041720" cy="76176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Georgia"/>
              </a:rPr>
              <a:t>Radiometric D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236196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s order of rock strata to determine relative age of fossi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717800" y="2361960"/>
            <a:ext cx="4273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sure decay of radioactive isotopes present in layers where fossils are f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# of years for 50% of original sample to dec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25_05_RadiometricDating-L.jpg"/>
          <p:cNvPicPr/>
          <p:nvPr/>
        </p:nvPicPr>
        <p:blipFill>
          <a:blip r:embed="rId1"/>
          <a:stretch/>
        </p:blipFill>
        <p:spPr>
          <a:xfrm>
            <a:off x="291960" y="127080"/>
            <a:ext cx="85471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3353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rebuchet MS"/>
              </a:rPr>
              <a:t>Geologic Time Scal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1676520"/>
            <a:ext cx="3429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Er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rio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Epoch (longest to shortes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esent Da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Phanerozoic Eon, Cenozoic Era, Quaternary Period, Holocene Epo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3" descr="25_T01_GeologicRecord-L.jpg"/>
          <p:cNvPicPr/>
          <p:nvPr/>
        </p:nvPicPr>
        <p:blipFill>
          <a:blip r:embed="rId1"/>
          <a:stretch/>
        </p:blipFill>
        <p:spPr>
          <a:xfrm>
            <a:off x="3741840" y="76320"/>
            <a:ext cx="540216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25_07EarthHistoryClock_3-L.jpg"/>
          <p:cNvPicPr/>
          <p:nvPr/>
        </p:nvPicPr>
        <p:blipFill>
          <a:blip r:embed="rId1"/>
          <a:stretch/>
        </p:blipFill>
        <p:spPr>
          <a:xfrm>
            <a:off x="2895480" y="985680"/>
            <a:ext cx="5892840" cy="5186520"/>
          </a:xfrm>
          <a:prstGeom prst="rect">
            <a:avLst/>
          </a:prstGeom>
          <a:ln w="0">
            <a:noFill/>
          </a:ln>
        </p:spPr>
      </p:pic>
      <p:pic>
        <p:nvPicPr>
          <p:cNvPr id="271" name="Diagram 3" descr=""/>
          <p:cNvPicPr/>
          <p:nvPr/>
        </p:nvPicPr>
        <p:blipFill>
          <a:blip r:embed="rId2"/>
          <a:stretch/>
        </p:blipFill>
        <p:spPr>
          <a:xfrm>
            <a:off x="268200" y="762120"/>
            <a:ext cx="295128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rebuchet MS"/>
              </a:rPr>
              <a:t>Key Events in Life’s Histor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3" name="Picture 2" descr="25_UN08Summary_C3-L.jpg"/>
          <p:cNvPicPr/>
          <p:nvPr/>
        </p:nvPicPr>
        <p:blipFill>
          <a:blip r:embed="rId1"/>
          <a:stretch/>
        </p:blipFill>
        <p:spPr>
          <a:xfrm>
            <a:off x="0" y="1638360"/>
            <a:ext cx="9096480" cy="4457520"/>
          </a:xfrm>
          <a:prstGeom prst="rect">
            <a:avLst/>
          </a:prstGeom>
          <a:ln w="0">
            <a:noFill/>
          </a:ln>
        </p:spPr>
      </p:pic>
      <p:sp>
        <p:nvSpPr>
          <p:cNvPr id="274" name="Oval 3"/>
          <p:cNvSpPr/>
          <p:nvPr/>
        </p:nvSpPr>
        <p:spPr>
          <a:xfrm>
            <a:off x="1066680" y="1371600"/>
            <a:ext cx="2133720" cy="2133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"/>
          <p:cNvSpPr/>
          <p:nvPr/>
        </p:nvSpPr>
        <p:spPr>
          <a:xfrm>
            <a:off x="3733920" y="1600200"/>
            <a:ext cx="2133360" cy="2133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loud 5"/>
          <p:cNvSpPr/>
          <p:nvPr/>
        </p:nvSpPr>
        <p:spPr>
          <a:xfrm>
            <a:off x="1447920" y="4876920"/>
            <a:ext cx="3200400" cy="1523880"/>
          </a:xfrm>
          <a:prstGeom prst="pie">
            <a:avLst/>
          </a:prstGeom>
          <a:noFill/>
          <a:ln w="28440">
            <a:solidFill>
              <a:srgbClr val="53548a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accumulates in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2.7 b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Up Arrow 6"/>
          <p:cNvSpPr/>
          <p:nvPr/>
        </p:nvSpPr>
        <p:spPr>
          <a:xfrm>
            <a:off x="2971800" y="3809880"/>
            <a:ext cx="228600" cy="1143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Up Arrow 7"/>
          <p:cNvSpPr/>
          <p:nvPr/>
        </p:nvSpPr>
        <p:spPr>
          <a:xfrm>
            <a:off x="8381880" y="3962520"/>
            <a:ext cx="228600" cy="106668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7772400" y="5029200"/>
            <a:ext cx="12952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20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638680" y="1523880"/>
            <a:ext cx="1905120" cy="1905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7315200" y="1447920"/>
            <a:ext cx="1752480" cy="175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260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dosymbiont Theo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3123720"/>
            <a:ext cx="830592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chondria &amp; plastids (chloroplasts) formed from small prokaryotes living in larger ce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lication by binary fiss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ngle, circular DNA (no histone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ibosomes to make protei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nzymes similar to living prokaryot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wo membran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84" name="Picture 2" descr="http://microbewiki.kenyon.edu/images/thumb/2/25/Mitochondria.gif/400px-Mitochondria.gif"/>
          <p:cNvPicPr/>
          <p:nvPr/>
        </p:nvPicPr>
        <p:blipFill>
          <a:blip r:embed="rId1"/>
          <a:stretch/>
        </p:blipFill>
        <p:spPr>
          <a:xfrm>
            <a:off x="5715000" y="1066680"/>
            <a:ext cx="2438280" cy="1895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1.bp.blogspot.com/-2WtjyRjhLRs/TbQicIlj20I/AAAAAAAAADU/z3wTnj5fSpo/s1600/chloroplasts.jpg"/>
          <p:cNvPicPr/>
          <p:nvPr/>
        </p:nvPicPr>
        <p:blipFill>
          <a:blip r:embed="rId2"/>
          <a:stretch/>
        </p:blipFill>
        <p:spPr>
          <a:xfrm>
            <a:off x="1295280" y="1219320"/>
            <a:ext cx="32767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28"/>
          <p:cNvSpPr/>
          <p:nvPr/>
        </p:nvSpPr>
        <p:spPr>
          <a:xfrm>
            <a:off x="3886200" y="1981080"/>
            <a:ext cx="5029200" cy="2940120"/>
          </a:xfrm>
          <a:prstGeom prst="roundRect">
            <a:avLst>
              <a:gd name="adj" fmla="val 16667"/>
            </a:avLst>
          </a:prstGeom>
          <a:solidFill>
            <a:srgbClr val="5c92b5"/>
          </a:solidFill>
          <a:ln w="19080">
            <a:solidFill>
              <a:srgbClr val="416a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Pangaea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= Super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rmed 250 m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Continental drift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explains many biogeographic puzz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0" descr="25_14_ContinentalDrift-L.jpg"/>
          <p:cNvPicPr/>
          <p:nvPr/>
        </p:nvPicPr>
        <p:blipFill>
          <a:blip r:embed="rId1"/>
          <a:stretch/>
        </p:blipFill>
        <p:spPr>
          <a:xfrm>
            <a:off x="380880" y="122400"/>
            <a:ext cx="3078360" cy="6583320"/>
          </a:xfrm>
          <a:prstGeom prst="rect">
            <a:avLst/>
          </a:prstGeom>
          <a:ln w="0">
            <a:noFill/>
          </a:ln>
        </p:spPr>
      </p:pic>
      <p:sp>
        <p:nvSpPr>
          <p:cNvPr id="288" name="Left Arrow 29"/>
          <p:cNvSpPr/>
          <p:nvPr/>
        </p:nvSpPr>
        <p:spPr>
          <a:xfrm rot="19037400">
            <a:off x="2335320" y="4484160"/>
            <a:ext cx="1752480" cy="3812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Movement of continental plates change geography and climate of Earth </a:t>
            </a:r>
            <a:r>
              <a:rPr b="0" lang="en-US" sz="2800" spc="-1" strike="noStrike">
                <a:solidFill>
                  <a:srgbClr val="42445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 Extinctions and speciation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0" name="Picture 4" descr="25_13TectonicPlates-L.jpg"/>
          <p:cNvPicPr/>
          <p:nvPr/>
        </p:nvPicPr>
        <p:blipFill>
          <a:blip r:embed="rId1"/>
          <a:stretch/>
        </p:blipFill>
        <p:spPr>
          <a:xfrm>
            <a:off x="304920" y="1600200"/>
            <a:ext cx="8547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apter 2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The History of Life on Ear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1" descr="25_01AntarcticSceneDinos-L.jpg"/>
          <p:cNvPicPr/>
          <p:nvPr/>
        </p:nvPicPr>
        <p:blipFill>
          <a:blip r:embed="rId1"/>
          <a:stretch/>
        </p:blipFill>
        <p:spPr>
          <a:xfrm>
            <a:off x="4343400" y="228600"/>
            <a:ext cx="44766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rebuchet MS"/>
              </a:rPr>
              <a:t>Mass extinctions </a:t>
            </a:r>
            <a:r>
              <a:rPr b="1" lang="en-US" sz="36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b050"/>
                </a:solidFill>
                <a:latin typeface="Trebuchet MS"/>
              </a:rPr>
              <a:t> Diversity of life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5334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jor periods in Earth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 his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ith </a:t>
            </a:r>
            <a:r>
              <a:rPr b="0" i="1" lang="en-US" sz="2800" spc="-1" strike="noStrike">
                <a:solidFill>
                  <a:srgbClr val="7030a0"/>
                </a:solidFill>
                <a:latin typeface="Georgia"/>
              </a:rPr>
              <a:t>mass extinct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d new on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ith </a:t>
            </a:r>
            <a:r>
              <a:rPr b="0" i="1" lang="en-US" sz="2800" spc="-1" strike="noStrike">
                <a:solidFill>
                  <a:srgbClr val="0070c0"/>
                </a:solidFill>
                <a:latin typeface="Georgia"/>
              </a:rPr>
              <a:t>adaptive radi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3" name="Picture 3" descr="25_15MassExtinctionDiv-L.jpg"/>
          <p:cNvPicPr/>
          <p:nvPr/>
        </p:nvPicPr>
        <p:blipFill>
          <a:blip r:embed="rId1"/>
          <a:stretch/>
        </p:blipFill>
        <p:spPr>
          <a:xfrm>
            <a:off x="1600200" y="914400"/>
            <a:ext cx="56656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jor events during each Er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recambria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microscopic fossils (stromatolit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hotosynthesis, atmospheric O</a:t>
            </a:r>
            <a:r>
              <a:rPr b="0" lang="en-US" sz="24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ukaryotes (endosymbiont theor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aleozo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406f8d"/>
                </a:solidFill>
                <a:latin typeface="Georgia"/>
              </a:rPr>
              <a:t>Cambrian Explos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lants invade land, many animals appea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ermian Extinction (-96% species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Mesozo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ge of Reptiles”, dinosaur, pla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Formation of Pangaea supercontin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retaceous Extinction – asteroid off Mexico</a:t>
            </a:r>
            <a:r>
              <a:rPr b="0" lang="ja-JP" sz="2400" spc="-1" strike="noStrike">
                <a:solidFill>
                  <a:srgbClr val="438086"/>
                </a:solidFill>
                <a:latin typeface="Georgia"/>
              </a:rPr>
              <a:t>’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 coas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Cenozo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Prim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6" name="Title 1"/>
          <p:cNvGrpSpPr/>
          <p:nvPr/>
        </p:nvGrpSpPr>
        <p:grpSpPr>
          <a:xfrm>
            <a:off x="438120" y="5522760"/>
            <a:ext cx="8467920" cy="1195560"/>
            <a:chOff x="438120" y="5522760"/>
            <a:chExt cx="8467920" cy="1195560"/>
          </a:xfrm>
        </p:grpSpPr>
        <p:pic>
          <p:nvPicPr>
            <p:cNvPr id="297" name="Title 1" descr=""/>
            <p:cNvPicPr/>
            <p:nvPr/>
          </p:nvPicPr>
          <p:blipFill>
            <a:blip r:embed="rId1"/>
            <a:stretch/>
          </p:blipFill>
          <p:spPr>
            <a:xfrm>
              <a:off x="438120" y="5522760"/>
              <a:ext cx="84679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28560" y="5657760"/>
              <a:ext cx="80391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Note: All </a:t>
              </a: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end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 with </a:t>
              </a: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major extinction 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&amp; </a:t>
              </a: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Trebuchet MS"/>
                </a:rPr>
                <a:t>start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 with </a:t>
              </a: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adaptive radi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iscovery Video: Mass Exti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0" descr="25_25aStickleback-L.jpg"/>
          <p:cNvPicPr/>
          <p:nvPr/>
        </p:nvPicPr>
        <p:blipFill>
          <a:blip r:embed="rId1"/>
          <a:stretch/>
        </p:blipFill>
        <p:spPr>
          <a:xfrm>
            <a:off x="3505320" y="3200400"/>
            <a:ext cx="2438280" cy="21128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904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olution of new forms results from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Georgia"/>
              </a:rPr>
              <a:t>changes in DN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Georgia"/>
              </a:rPr>
              <a:t>regulation of developmental ge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3" name="Picture 8" descr="25_25cStickleback-L.jpg"/>
          <p:cNvPicPr/>
          <p:nvPr/>
        </p:nvPicPr>
        <p:blipFill>
          <a:blip r:embed="rId2"/>
          <a:stretch/>
        </p:blipFill>
        <p:spPr>
          <a:xfrm>
            <a:off x="0" y="4159080"/>
            <a:ext cx="3338640" cy="2698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25_25dStickleback-L.jpg"/>
          <p:cNvPicPr/>
          <p:nvPr/>
        </p:nvPicPr>
        <p:blipFill>
          <a:blip r:embed="rId3"/>
          <a:stretch/>
        </p:blipFill>
        <p:spPr>
          <a:xfrm>
            <a:off x="5869080" y="3897360"/>
            <a:ext cx="3274920" cy="29606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rebuchet MS"/>
              </a:rPr>
              <a:t>Evo-Devo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evolutionary + developmental biology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04560" y="7617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Heterochro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evolutionary change in rate of developmental ev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Picture 3" descr="25_21bRelativeGrowth-L.jpg"/>
          <p:cNvPicPr/>
          <p:nvPr/>
        </p:nvPicPr>
        <p:blipFill>
          <a:blip r:embed="rId1"/>
          <a:stretch/>
        </p:blipFill>
        <p:spPr>
          <a:xfrm>
            <a:off x="685800" y="1981080"/>
            <a:ext cx="3695760" cy="3657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25_22Paedomorphosis-L.jpg"/>
          <p:cNvPicPr/>
          <p:nvPr/>
        </p:nvPicPr>
        <p:blipFill>
          <a:blip r:embed="rId2"/>
          <a:stretch/>
        </p:blipFill>
        <p:spPr>
          <a:xfrm>
            <a:off x="4876920" y="2057400"/>
            <a:ext cx="3733560" cy="26049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"/>
          <p:cNvSpPr/>
          <p:nvPr/>
        </p:nvSpPr>
        <p:spPr>
          <a:xfrm>
            <a:off x="4800600" y="4724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83a7a"/>
                </a:solidFill>
                <a:uFillTx/>
                <a:latin typeface="Arial"/>
              </a:rPr>
              <a:t>Paedomorph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ult retains juvenile structures in ancestral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685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83a7a"/>
                </a:solidFill>
                <a:uFillTx/>
                <a:latin typeface="Georgia"/>
              </a:rPr>
              <a:t>Homeotic gene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master regulatory genes determine location and organization of body par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g. </a:t>
            </a:r>
            <a:r>
              <a:rPr b="1" lang="en-US" sz="2800" spc="-1" strike="noStrike">
                <a:solidFill>
                  <a:srgbClr val="783a7a"/>
                </a:solidFill>
                <a:latin typeface="Georgia"/>
              </a:rPr>
              <a:t>Hox ge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25_23_HoxLimbDevelop-L.jpg"/>
          <p:cNvPicPr/>
          <p:nvPr/>
        </p:nvPicPr>
        <p:blipFill>
          <a:blip r:embed="rId1"/>
          <a:stretch/>
        </p:blipFill>
        <p:spPr>
          <a:xfrm>
            <a:off x="228600" y="2895480"/>
            <a:ext cx="3809880" cy="27529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304920" y="5638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340"/>
                </a:solidFill>
                <a:latin typeface="Arial"/>
              </a:rPr>
              <a:t>Hox gene expression and limb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25_24InsectBodyOrigin-L.jpg"/>
          <p:cNvPicPr/>
          <p:nvPr/>
        </p:nvPicPr>
        <p:blipFill>
          <a:blip r:embed="rId2"/>
          <a:stretch/>
        </p:blipFill>
        <p:spPr>
          <a:xfrm>
            <a:off x="4419720" y="3657600"/>
            <a:ext cx="4376520" cy="28083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6"/>
          <p:cNvSpPr/>
          <p:nvPr/>
        </p:nvSpPr>
        <p:spPr>
          <a:xfrm>
            <a:off x="4419720" y="2666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olution of Hox genes changes the insect body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99036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80"/>
                </a:solidFill>
                <a:uFillTx/>
                <a:latin typeface="Georgia"/>
              </a:rPr>
              <a:t>Exaptat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structures that evolve but become co-opted for another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Eg. bird feathers = thermoregulation </a:t>
            </a:r>
            <a:r>
              <a:rPr b="0" lang="en-US" sz="28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 flight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16" name="Picture 2" descr="Archaeopteryx"/>
          <p:cNvPicPr/>
          <p:nvPr/>
        </p:nvPicPr>
        <p:blipFill>
          <a:blip r:embed="rId1"/>
          <a:stretch/>
        </p:blipFill>
        <p:spPr>
          <a:xfrm>
            <a:off x="762120" y="3068640"/>
            <a:ext cx="3809880" cy="3301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Similicaudipterx"/>
          <p:cNvPicPr/>
          <p:nvPr/>
        </p:nvPicPr>
        <p:blipFill>
          <a:blip r:embed="rId2"/>
          <a:stretch/>
        </p:blipFill>
        <p:spPr>
          <a:xfrm>
            <a:off x="4952880" y="32004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you need to know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1371240"/>
            <a:ext cx="9144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cientific hypothesis about the origin of life on Eart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ge of the Earth and when prokaryotic and eukaryotic life emerg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racteristics of the early planet and its atmospher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Miller &amp; Urey tested the Oparin-Haldane hypothesis and what they learn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hods used to date fossils and rocks and how fossil evidence contributes to our understanding of changes in life on Eart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idence for endosymbios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continental drift can explain the current distribution of speci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extinction events open habitats that may result in adaptive radi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44000" cy="5018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arly conditions on Eart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covery Video: Early Lif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762120"/>
            <a:ext cx="84582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 = 4.6 billion years ol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life forms appeared ~3.8 billion years ag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ow did life aris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organic molecules were synthesiz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molecul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acromolecules (proteins, nucleic acid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ckaged into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protocells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membrane-containing droplet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f-replicating molecules allow for inherit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33640" indent="-4935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NA World”: 1st genetic material most likely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RNA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33640" indent="-4935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First catalysts =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ribozymes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(RNA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Synthesis of Organic Compounds on Early Earth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2057400"/>
            <a:ext cx="510552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Oparin &amp; Halda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Early atmosphere = H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O vapor, N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, CO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, H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, H</a:t>
            </a:r>
            <a:r>
              <a:rPr b="0" lang="en-US" sz="2800" spc="-1" strike="noStrike" baseline="-25000">
                <a:solidFill>
                  <a:srgbClr val="31334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S methane, ammonia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Energy =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lightning</a:t>
            </a: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 &amp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UV radiation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3340"/>
                </a:solidFill>
                <a:latin typeface="Georgia"/>
              </a:rPr>
              <a:t>Conditions favored synthesis of organic compounds - a “primitive soup”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1" name="Picture 3" descr="25_02bSimulatedVolcanic-L.jpg"/>
          <p:cNvPicPr/>
          <p:nvPr/>
        </p:nvPicPr>
        <p:blipFill>
          <a:blip r:embed="rId1"/>
          <a:stretch/>
        </p:blipFill>
        <p:spPr>
          <a:xfrm>
            <a:off x="5456160" y="1447920"/>
            <a:ext cx="345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560" y="533160"/>
            <a:ext cx="5257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Miller &amp; Ur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sted Oparin-Haldane hypothe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mulated conditions in la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ed amino aci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3089160" cy="4945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8102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rebuchet MS"/>
              </a:rPr>
              <a:t>Protocells &amp; Self-Replicating RNA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3" descr="25_03bAbioticVesicles-L.jpg"/>
          <p:cNvPicPr/>
          <p:nvPr/>
        </p:nvPicPr>
        <p:blipFill>
          <a:blip r:embed="rId1"/>
          <a:stretch/>
        </p:blipFill>
        <p:spPr>
          <a:xfrm>
            <a:off x="838080" y="1828800"/>
            <a:ext cx="3753000" cy="4614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25_03cAbioticVesicles-L.jpg"/>
          <p:cNvPicPr/>
          <p:nvPr/>
        </p:nvPicPr>
        <p:blipFill>
          <a:blip r:embed="rId2"/>
          <a:stretch/>
        </p:blipFill>
        <p:spPr>
          <a:xfrm>
            <a:off x="5029200" y="1828800"/>
            <a:ext cx="32828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38:16Z</dcterms:created>
  <dc:creator>Chris Nancy Chou</dc:creator>
  <dc:description/>
  <dc:language>en-US</dc:language>
  <cp:lastModifiedBy>Chris Nancy Chou</cp:lastModifiedBy>
  <cp:lastPrinted>2012-02-23T00:38:16Z</cp:lastPrinted>
  <dcterms:modified xsi:type="dcterms:W3CDTF">2014-02-21T06:26:49Z</dcterms:modified>
  <cp:revision>63</cp:revision>
  <dc:subject/>
  <dc:title>Chapter 23</dc:title>
</cp:coreProperties>
</file>